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7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8E6-2BA0-4307-AF65-67D1C3A5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0AC-5578-4CBF-BF1D-BB68D7D7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7BA-0462-4036-92F1-6B07410A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DE0-11E6-4374-8282-188C552D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5100-7B2D-4DAC-9C14-1B4F7B69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E767-10A9-40D0-A15A-815E98FC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0F38-73DC-4572-83F0-2F4233D1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9799-F590-463C-A35C-20B4BBAF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8E41-EDF8-4D19-8564-FB8CFB62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ACFC-277D-4C30-A7D4-59357D04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18F0-F5F5-4A09-8787-8C6C16D2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1A9-DBD9-431F-B0F7-E22586C2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9592-A730-4EAA-89B9-929168B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02E5-9302-4C95-A7DE-CBFBBFBD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7C6D-1AC4-407B-A3EA-93C8CE61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B88E-9084-4A67-9B10-0F26A07F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B5BF-659B-419F-825E-5F054505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A07F-C39F-479E-804F-028B0227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89A5-0B73-48DF-BFA9-B564AD03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80C8-85D1-4275-8DF2-8CFB83A5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2106-F56F-4AA5-A4BA-13D49ED3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77C9-B2B6-4D76-9495-B4B4CF6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EE1-F0B2-4B10-BFD3-0543276F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CDFA-C609-4467-8DE1-82D4C95D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51058-8D1F-4F70-B5C0-B15FC99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9B25-2D8E-4882-9582-26FFB817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3551-868D-4B1D-88EA-2E374C1D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BFA4-F7B5-406E-B3F3-BD851C16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C913-35F7-49C1-9F01-EAAFECC3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D441E-F8A5-4778-BEB0-7D609E99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99BD-4992-4D91-BD90-80ECB03E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B936-A70D-4A19-9107-9BDA241B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CEBD-5BFE-4A18-8F72-354C155B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482-F0B5-4590-99F7-03F09919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0D3C-F5C8-424C-8D50-A89AF943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2FF3-0A5F-4D02-9CD4-142475E4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2B70-68E9-437E-B35F-731E3E1F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48398-54D4-4492-9FB4-E5E9B650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4B74-F851-4C4D-847B-6E069C06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46A33-5089-41DB-A59A-93C08BF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9F0A2-9F97-4770-8F73-547BEA49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BED4-ED20-4336-8536-A2EA0DF1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F6B2-A89A-4C00-AE5A-FE483FFE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6910E-E063-459F-9578-7ED99B9F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043-BF33-45DC-B19F-4686DCDD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9B278-9D9D-447D-85EC-28E14D75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2F99-22EB-4B3A-A334-A3ECF5A4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556A3-6BE3-406B-A8BE-4CCEB2A0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0A62-81CD-460E-90A6-A46F4647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A6AC3-2E9C-4A39-BDA7-3F30DDB8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A87FF-9FDE-42CB-B6FC-1304AE03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30B10-4342-4F59-9276-6588469D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B581-66BC-4132-8D67-37588482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41CF-D563-4470-A733-A8FCE3C2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ED362-623B-4610-A29B-8EC4DD8C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211-7BF6-4A57-B989-D0253997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CD51C-6B66-4E4B-9713-15E59CAC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C11C-1483-46D2-AC60-DFC6B3F3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EE3C1-2D59-42FD-8CD0-BC1A67B0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6F6D9-40B7-4B82-A130-C2B3501F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EE93-EF3F-4878-BBDE-02338DBA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71634-CF78-4CEC-8249-CD9275DC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EF01-2D95-4586-8482-21D05863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1EFAD-CCE2-4F16-84D2-A470256E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94479-7E10-4CAB-849B-FA6AC685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955D-8C93-483B-A045-47958857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43F-D932-4EFA-AE0D-6203FB75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052E3-44E4-491C-8444-CFBE913B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C7C32-6B87-48EC-82CF-4AC8F6BF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DA157-B6E6-448A-8E97-EBAEC4AA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81469-3D86-40DB-9F5D-DCAA4FB2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7F05D-F6EF-42BE-9747-0A04E545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F6C45-A34E-4F98-B2CD-511E9D06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E0C81-423A-43CF-A04E-C0928235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B565B-F52F-4EBC-A3C3-9AE895D8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73F13-3892-4577-A754-3B5F86E2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1441B-2D37-4AD1-95ED-DBD939DF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21E-6119-4E02-8445-983CB41E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CFB6F-BC4F-45CE-8E40-5BC13825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607AC-EA8E-409D-92D3-CF67BB5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8EB7A-5097-443D-A89F-A75DED2C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218E5-E400-4A23-ABCF-3D7A316F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F8184-33C4-4B17-AAEE-FE6A1CAB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EBCEE-48FE-4E95-A97F-65932780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CA5C5-4A1A-4BEA-AEED-014787E2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12CEE-667B-4BE2-A290-F3E24CF0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1F2D1-BBDE-4FBA-A420-B33DC4BC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274AD-9AFC-483A-BAD8-2FF85498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AFD-564B-40A9-92E9-8B160F1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70C58-48DA-4C50-98CB-191885F0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F147E-5A36-4113-85FA-2CF605C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59BAE-DEAB-446F-87AE-2C7BF271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8F67A-6030-4618-BFD6-947A444B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30121-101F-4071-A514-6082FD83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98F81-2EBD-4993-9B5F-507D978E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203CC-EE16-4CBA-BB77-5465B26A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5B0A-E3DF-4C7E-B846-5531E0A008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0CCF-DB6E-41FD-B13F-ADA5F887A3BC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D350-CA9E-43ED-94FB-80D180C868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54B1-6223-4B97-B2B5-39350BD70A4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037-280D-4389-8EAF-C925C239C0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B629-6849-4839-9CBB-E47FF1FE92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A332-1628-4C05-BFBF-C2CEF509609F}" type="slidenum"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EF79-530F-4C2C-A175-E92CA443AA3C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822240" y="1189080"/>
            <a:ext cx="8302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1 Título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504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35355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 Título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504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916360" y="2060640"/>
            <a:ext cx="3084480" cy="4118040"/>
          </a:xfrm>
          <a:prstGeom prst="rect">
            <a:avLst/>
          </a:prstGeom>
          <a:ln w="0">
            <a:noFill/>
          </a:ln>
        </p:spPr>
      </p:pic>
      <p:sp>
        <p:nvSpPr>
          <p:cNvPr id="380" name="4 Flecha izquierda"/>
          <p:cNvSpPr/>
          <p:nvPr/>
        </p:nvSpPr>
        <p:spPr>
          <a:xfrm>
            <a:off x="5219640" y="4508640"/>
            <a:ext cx="1944720" cy="93636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05800" cy="5776920"/>
          </a:xfrm>
          <a:prstGeom prst="rect">
            <a:avLst/>
          </a:prstGeom>
          <a:ln w="0">
            <a:noFill/>
          </a:ln>
        </p:spPr>
      </p:pic>
      <p:sp>
        <p:nvSpPr>
          <p:cNvPr id="347" name="4 CuadroTexto"/>
          <p:cNvSpPr/>
          <p:nvPr/>
        </p:nvSpPr>
        <p:spPr>
          <a:xfrm>
            <a:off x="2411280" y="3213000"/>
            <a:ext cx="432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5 CuadroTexto"/>
          <p:cNvSpPr/>
          <p:nvPr/>
        </p:nvSpPr>
        <p:spPr>
          <a:xfrm>
            <a:off x="5940360" y="2349360"/>
            <a:ext cx="432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6 CuadroTexto"/>
          <p:cNvSpPr/>
          <p:nvPr/>
        </p:nvSpPr>
        <p:spPr>
          <a:xfrm>
            <a:off x="3564000" y="5013360"/>
            <a:ext cx="431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7 CuadroTexto"/>
          <p:cNvSpPr/>
          <p:nvPr/>
        </p:nvSpPr>
        <p:spPr>
          <a:xfrm>
            <a:off x="4427640" y="1773360"/>
            <a:ext cx="431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8 CuadroTexto"/>
          <p:cNvSpPr/>
          <p:nvPr/>
        </p:nvSpPr>
        <p:spPr>
          <a:xfrm>
            <a:off x="1476360" y="2708280"/>
            <a:ext cx="431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9 CuadroTexto"/>
          <p:cNvSpPr/>
          <p:nvPr/>
        </p:nvSpPr>
        <p:spPr>
          <a:xfrm>
            <a:off x="2627280" y="2133720"/>
            <a:ext cx="432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10 CuadroTexto"/>
          <p:cNvSpPr/>
          <p:nvPr/>
        </p:nvSpPr>
        <p:spPr>
          <a:xfrm>
            <a:off x="7164360" y="4149720"/>
            <a:ext cx="432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11 CuadroTexto"/>
          <p:cNvSpPr/>
          <p:nvPr/>
        </p:nvSpPr>
        <p:spPr>
          <a:xfrm>
            <a:off x="4356000" y="3357720"/>
            <a:ext cx="432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12 CuadroTexto"/>
          <p:cNvSpPr/>
          <p:nvPr/>
        </p:nvSpPr>
        <p:spPr>
          <a:xfrm>
            <a:off x="3276720" y="1413000"/>
            <a:ext cx="431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4" descr="http://www.funjdiaz.net/instrumentos/img/0846.jpg"/>
          <p:cNvPicPr/>
          <p:nvPr/>
        </p:nvPicPr>
        <p:blipFill>
          <a:blip r:embed="rId2"/>
          <a:stretch/>
        </p:blipFill>
        <p:spPr>
          <a:xfrm>
            <a:off x="6156360" y="549360"/>
            <a:ext cx="1965240" cy="1358640"/>
          </a:xfrm>
          <a:prstGeom prst="rect">
            <a:avLst/>
          </a:prstGeom>
          <a:ln w="0">
            <a:noFill/>
          </a:ln>
        </p:spPr>
      </p:pic>
      <p:sp>
        <p:nvSpPr>
          <p:cNvPr id="357" name="14 CuadroTexto"/>
          <p:cNvSpPr/>
          <p:nvPr/>
        </p:nvSpPr>
        <p:spPr>
          <a:xfrm>
            <a:off x="6516720" y="549360"/>
            <a:ext cx="431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3"/>
          <a:stretch/>
        </p:blipFill>
        <p:spPr>
          <a:xfrm>
            <a:off x="270000" y="4941720"/>
            <a:ext cx="1493640" cy="1351080"/>
          </a:xfrm>
          <a:prstGeom prst="rect">
            <a:avLst/>
          </a:prstGeom>
          <a:ln w="0">
            <a:noFill/>
          </a:ln>
        </p:spPr>
      </p:pic>
      <p:sp>
        <p:nvSpPr>
          <p:cNvPr id="359" name="16 CuadroTexto"/>
          <p:cNvSpPr/>
          <p:nvPr/>
        </p:nvSpPr>
        <p:spPr>
          <a:xfrm>
            <a:off x="1116000" y="5445000"/>
            <a:ext cx="647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1 Título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3292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62182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1 Título" descr=""/>
          <p:cNvPicPr/>
          <p:nvPr/>
        </p:nvPicPr>
        <p:blipFill>
          <a:blip r:embed="rId1"/>
          <a:stretch/>
        </p:blipFill>
        <p:spPr>
          <a:xfrm>
            <a:off x="450720" y="-244440"/>
            <a:ext cx="8242560" cy="2225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4321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1 Título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369280" cy="1577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4785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1 Título" descr=""/>
          <p:cNvPicPr/>
          <p:nvPr/>
        </p:nvPicPr>
        <p:blipFill>
          <a:blip r:embed="rId1"/>
          <a:stretch/>
        </p:blipFill>
        <p:spPr>
          <a:xfrm>
            <a:off x="450720" y="-189000"/>
            <a:ext cx="8242560" cy="18590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61182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1 Título" descr=""/>
          <p:cNvPicPr/>
          <p:nvPr/>
        </p:nvPicPr>
        <p:blipFill>
          <a:blip r:embed="rId1"/>
          <a:stretch/>
        </p:blipFill>
        <p:spPr>
          <a:xfrm>
            <a:off x="450720" y="-212760"/>
            <a:ext cx="8242560" cy="1882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3938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1 Título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8364600" cy="1481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5118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5048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2627280" y="2205000"/>
            <a:ext cx="35416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10-31T22:02:12Z</dcterms:modified>
  <cp:revision>12</cp:revision>
  <dc:subject/>
  <dc:title>LES PARTIES D’UN TOMBOUR D’HELLÍN</dc:title>
</cp:coreProperties>
</file>